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1E8-E141-4E5C-A4B6-7FC87B83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CBB-721A-45AB-A0FF-154CA3F6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D0B-83C2-4224-BE73-801B6179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D10-98E6-404F-9CE3-E41C1F36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A9F3-ED11-4E18-A3D1-8ED24B84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7658-422A-46A5-9AA0-16F2FF80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E17E-E312-4168-9577-45BB2FE7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E810-9D6F-4C44-90F2-3CDD2B22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B41F-0F2B-4CA4-8A5C-78140DA8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8497-949A-4ACA-B116-C2C4CB0E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F2BF-E6EF-4FE6-9D40-EA08B307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F99-910B-49D2-8F38-84AE977B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87DE-56EC-4F77-BE89-1517BA22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B48C-CB08-4977-B824-DDD1DD06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AA39-4404-4909-BC40-41555F65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4E66-A96C-4B2C-8E86-CB9A7931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A986-DE87-47A3-AC89-CFE73589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8033-C55F-4AA2-8757-206FF3C3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5CFD-2797-4DEB-A7AD-D9771259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CA9EA-DEFB-476B-8A88-88429663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6CF2-5406-41B6-8B8D-44017EFF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23AB-C6A6-4788-922C-6FF640F4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0B7-AD04-4469-87BD-43D53198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D6E29-5A8A-4028-8DFF-14C0F556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A6A3-B1F6-4484-8327-01C19FA6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9D00-2ACE-4163-8B3C-DA091D67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635AF-B963-42FF-B70A-AE5027ED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8B88-B037-481A-986D-D03D7419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9909-7A46-46DB-9F2B-BD078220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38357-A238-45D1-B3F3-B50C98B2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B0DAC-7DBC-443A-AEB0-64E0EBBA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8659A-776A-4D3D-B648-90F2ABCA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16550-172F-4863-920E-186D8040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D01-89F6-4CFC-8D09-924B010B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9352-1FF0-4AF4-9B82-51CDDBC7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F9E22-A659-47EC-BA2F-ACF71EBB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279DB-A8A2-4C80-ABD3-C845F292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D047-E084-4232-9B7A-E975EB0D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F816D-A0F3-4354-94CA-DA48C73C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E78B3-74B8-493F-BB0B-F096829B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6CBA9-BF30-4BD0-BBBC-64523C2C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FF2C4-47F6-4B59-967B-17D18FEB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C9657-C171-4C74-A43D-ED544E55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A7508-4ED2-4812-B999-DA9F2E9F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6D9-0D9E-404B-9A51-2A2E7305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35F99-61ED-4A38-973E-58748C72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D1469-1FDE-4CB6-A7BC-3C764A02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34CD3-4FE0-4A55-82A0-E27AAF8C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8D43F-22AD-42CC-8B83-CA0A2333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C355C-0620-4811-ABE4-79381F93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99D1-CFDF-420B-9AF9-77A5CA46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BB35C-37B6-4DF5-A7F7-82A55427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B2F05-A913-4BCF-887B-0A03F382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B6A42-2BAE-4119-89CD-09F08127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19771-CB6D-4767-A400-04B00B44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165-75AA-4849-85C7-47FE8FEE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39D2B-77FF-4672-B41F-FDF48BBB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3ED-F23C-4F3F-84A1-D615510C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153-517C-43C6-A036-E42931C0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B55-EA93-4E80-B000-27555143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AA5B-8056-413A-ADE9-E45AAE97BDD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9BB0-5775-4806-822D-45A616AA406D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FEFC-4001-4905-8B2B-30846D5157B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DF19-09BB-46DE-BB18-8C5F380D319F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64F8-8BA9-4412-956B-3A9BE25CBE9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187800" y="2597040"/>
            <a:ext cx="5565600" cy="811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naging Aggregate Demand: Fiscal Polic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228600" y="1609200"/>
            <a:ext cx="7848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v’t has played passive role; both G &amp; T fix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oking at how gov’t uses spending and taxes to effect demand-side of econom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XED TAXES: taxes that don’t vary with GDP (property tax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RIABLE TAXES: taxes that do vary with GDP (income tax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52280" y="1609200"/>
            <a:ext cx="7848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*Certain types of tax cuts are expected to increase 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an be used to reward working, saving, and investing mor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sponse to tax cuts-increase in availability in labor and capital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6" name="Group 35"/>
          <p:cNvGrpSpPr/>
          <p:nvPr/>
        </p:nvGrpSpPr>
        <p:grpSpPr>
          <a:xfrm>
            <a:off x="1066320" y="4191120"/>
            <a:ext cx="2592720" cy="2363760"/>
            <a:chOff x="1066320" y="4191120"/>
            <a:chExt cx="2592720" cy="2363760"/>
          </a:xfrm>
        </p:grpSpPr>
        <p:grpSp>
          <p:nvGrpSpPr>
            <p:cNvPr id="227" name="Group 15"/>
            <p:cNvGrpSpPr/>
            <p:nvPr/>
          </p:nvGrpSpPr>
          <p:grpSpPr>
            <a:xfrm>
              <a:off x="1066680" y="4191120"/>
              <a:ext cx="2592360" cy="2363760"/>
              <a:chOff x="1066680" y="4191120"/>
              <a:chExt cx="2592360" cy="2363760"/>
            </a:xfrm>
          </p:grpSpPr>
          <p:sp>
            <p:nvSpPr>
              <p:cNvPr id="228" name="Straight Connector 12"/>
              <p:cNvSpPr/>
              <p:nvPr/>
            </p:nvSpPr>
            <p:spPr>
              <a:xfrm flipH="1">
                <a:off x="1066680" y="4191120"/>
                <a:ext cx="1440" cy="236232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Straight Connector 14"/>
              <p:cNvSpPr/>
              <p:nvPr/>
            </p:nvSpPr>
            <p:spPr>
              <a:xfrm>
                <a:off x="1068120" y="6553440"/>
                <a:ext cx="2590920" cy="144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6"/>
            <p:cNvGrpSpPr/>
            <p:nvPr/>
          </p:nvGrpSpPr>
          <p:grpSpPr>
            <a:xfrm>
              <a:off x="1523160" y="4343400"/>
              <a:ext cx="1524600" cy="1905840"/>
              <a:chOff x="1523160" y="4343400"/>
              <a:chExt cx="1524600" cy="1905840"/>
            </a:xfrm>
          </p:grpSpPr>
          <p:sp>
            <p:nvSpPr>
              <p:cNvPr id="231" name="Straight Connector 17"/>
              <p:cNvSpPr/>
              <p:nvPr/>
            </p:nvSpPr>
            <p:spPr>
              <a:xfrm>
                <a:off x="1523160" y="4343400"/>
                <a:ext cx="1524600" cy="190584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Straight Connector 22"/>
              <p:cNvSpPr/>
              <p:nvPr/>
            </p:nvSpPr>
            <p:spPr>
              <a:xfrm flipH="1">
                <a:off x="1523880" y="4419360"/>
                <a:ext cx="1448640" cy="182988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Oval 27"/>
            <p:cNvSpPr/>
            <p:nvPr/>
          </p:nvSpPr>
          <p:spPr>
            <a:xfrm>
              <a:off x="2209680" y="5181840"/>
              <a:ext cx="152280" cy="152280"/>
            </a:xfrm>
            <a:prstGeom prst="ellipse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traight Connector 31"/>
            <p:cNvSpPr/>
            <p:nvPr/>
          </p:nvSpPr>
          <p:spPr>
            <a:xfrm flipH="1">
              <a:off x="2286000" y="5335560"/>
              <a:ext cx="1440" cy="1219320"/>
            </a:xfrm>
            <a:prstGeom prst="line">
              <a:avLst/>
            </a:prstGeom>
            <a:ln w="11520">
              <a:solidFill>
                <a:srgbClr val="b83d68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traight Connector 32"/>
            <p:cNvSpPr/>
            <p:nvPr/>
          </p:nvSpPr>
          <p:spPr>
            <a:xfrm flipH="1" flipV="1">
              <a:off x="1066320" y="5257800"/>
              <a:ext cx="1143000" cy="1440"/>
            </a:xfrm>
            <a:prstGeom prst="line">
              <a:avLst/>
            </a:prstGeom>
            <a:ln w="11520">
              <a:solidFill>
                <a:srgbClr val="b83d68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Straight Connector 37"/>
          <p:cNvSpPr/>
          <p:nvPr/>
        </p:nvSpPr>
        <p:spPr>
          <a:xfrm flipH="1">
            <a:off x="2057400" y="4648320"/>
            <a:ext cx="1295280" cy="167616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8"/>
          <p:cNvSpPr/>
          <p:nvPr/>
        </p:nvSpPr>
        <p:spPr>
          <a:xfrm>
            <a:off x="2514600" y="5562720"/>
            <a:ext cx="152280" cy="152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40"/>
          <p:cNvSpPr/>
          <p:nvPr/>
        </p:nvSpPr>
        <p:spPr>
          <a:xfrm flipH="1" flipV="1">
            <a:off x="1066680" y="5638320"/>
            <a:ext cx="1447920" cy="1800"/>
          </a:xfrm>
          <a:prstGeom prst="line">
            <a:avLst/>
          </a:prstGeom>
          <a:ln w="11520">
            <a:solidFill>
              <a:srgbClr val="b83d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42"/>
          <p:cNvSpPr/>
          <p:nvPr/>
        </p:nvSpPr>
        <p:spPr>
          <a:xfrm flipH="1">
            <a:off x="2588760" y="5716440"/>
            <a:ext cx="3240" cy="838440"/>
          </a:xfrm>
          <a:prstGeom prst="line">
            <a:avLst/>
          </a:prstGeom>
          <a:ln w="11520">
            <a:solidFill>
              <a:srgbClr val="b83d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3"/>
          <p:cNvSpPr/>
          <p:nvPr/>
        </p:nvSpPr>
        <p:spPr>
          <a:xfrm>
            <a:off x="297180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4"/>
          <p:cNvSpPr/>
          <p:nvPr/>
        </p:nvSpPr>
        <p:spPr>
          <a:xfrm>
            <a:off x="3352680" y="4419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5"/>
          <p:cNvSpPr/>
          <p:nvPr/>
        </p:nvSpPr>
        <p:spPr>
          <a:xfrm>
            <a:off x="3048120" y="6019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6"/>
          <p:cNvSpPr/>
          <p:nvPr/>
        </p:nvSpPr>
        <p:spPr>
          <a:xfrm>
            <a:off x="604800" y="41911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7"/>
          <p:cNvSpPr/>
          <p:nvPr/>
        </p:nvSpPr>
        <p:spPr>
          <a:xfrm>
            <a:off x="3632400" y="63244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8"/>
          <p:cNvSpPr/>
          <p:nvPr/>
        </p:nvSpPr>
        <p:spPr>
          <a:xfrm>
            <a:off x="1882080" y="65818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EGD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9"/>
          <p:cNvSpPr/>
          <p:nvPr/>
        </p:nvSpPr>
        <p:spPr>
          <a:xfrm>
            <a:off x="2496240" y="6581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EGD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0"/>
          <p:cNvSpPr/>
          <p:nvPr/>
        </p:nvSpPr>
        <p:spPr>
          <a:xfrm>
            <a:off x="449640" y="51055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1"/>
          <p:cNvSpPr/>
          <p:nvPr/>
        </p:nvSpPr>
        <p:spPr>
          <a:xfrm>
            <a:off x="527400" y="54864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L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2"/>
          <p:cNvSpPr/>
          <p:nvPr/>
        </p:nvSpPr>
        <p:spPr>
          <a:xfrm>
            <a:off x="4038480" y="48769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*Fights inflation and unemployment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523880"/>
            <a:ext cx="72388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er personal income tax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eople more willing to work since gov’t isn’t taking as much of their additional wag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roductivity up, costs down, profit up, AS up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duce taxes on income from sav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eople will save more, make more money available for loans, businesses can borrow to buy more tech. advanced capital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roduction up, costs down, profit up, AS up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duce capital gains tax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duces taxes on income from sale of asse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ives incentive to inves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duce corporate income tax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creases amount profit companies keep and can reinvest in capital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nding tax credits for research and develop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centive to increase use of technolog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066320" y="4191120"/>
            <a:ext cx="2592720" cy="2363760"/>
            <a:chOff x="1066320" y="4191120"/>
            <a:chExt cx="2592720" cy="2363760"/>
          </a:xfrm>
        </p:grpSpPr>
        <p:grpSp>
          <p:nvGrpSpPr>
            <p:cNvPr id="255" name="Group 15"/>
            <p:cNvGrpSpPr/>
            <p:nvPr/>
          </p:nvGrpSpPr>
          <p:grpSpPr>
            <a:xfrm>
              <a:off x="1066680" y="4191120"/>
              <a:ext cx="2592360" cy="2363760"/>
              <a:chOff x="1066680" y="4191120"/>
              <a:chExt cx="2592360" cy="2363760"/>
            </a:xfrm>
          </p:grpSpPr>
          <p:sp>
            <p:nvSpPr>
              <p:cNvPr id="256" name="Straight Connector 11"/>
              <p:cNvSpPr/>
              <p:nvPr/>
            </p:nvSpPr>
            <p:spPr>
              <a:xfrm flipH="1">
                <a:off x="1066680" y="4191120"/>
                <a:ext cx="1440" cy="236232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Straight Connector 12"/>
              <p:cNvSpPr/>
              <p:nvPr/>
            </p:nvSpPr>
            <p:spPr>
              <a:xfrm>
                <a:off x="1068120" y="6553440"/>
                <a:ext cx="2590920" cy="144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26"/>
            <p:cNvGrpSpPr/>
            <p:nvPr/>
          </p:nvGrpSpPr>
          <p:grpSpPr>
            <a:xfrm>
              <a:off x="1523160" y="4343400"/>
              <a:ext cx="1524600" cy="1905840"/>
              <a:chOff x="1523160" y="4343400"/>
              <a:chExt cx="1524600" cy="1905840"/>
            </a:xfrm>
          </p:grpSpPr>
          <p:sp>
            <p:nvSpPr>
              <p:cNvPr id="259" name="Straight Connector 9"/>
              <p:cNvSpPr/>
              <p:nvPr/>
            </p:nvSpPr>
            <p:spPr>
              <a:xfrm>
                <a:off x="1523160" y="4343400"/>
                <a:ext cx="1524600" cy="190584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Straight Connector 10"/>
              <p:cNvSpPr/>
              <p:nvPr/>
            </p:nvSpPr>
            <p:spPr>
              <a:xfrm flipH="1">
                <a:off x="1523880" y="4419360"/>
                <a:ext cx="1448640" cy="1829880"/>
              </a:xfrm>
              <a:prstGeom prst="line">
                <a:avLst/>
              </a:prstGeom>
              <a:ln w="11520">
                <a:solidFill>
                  <a:srgbClr val="b83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Oval 6"/>
            <p:cNvSpPr/>
            <p:nvPr/>
          </p:nvSpPr>
          <p:spPr>
            <a:xfrm>
              <a:off x="2209680" y="5181840"/>
              <a:ext cx="152280" cy="152280"/>
            </a:xfrm>
            <a:prstGeom prst="ellipse">
              <a:avLst/>
            </a:prstGeom>
            <a:solidFill>
              <a:srgbClr val="b83d68"/>
            </a:solidFill>
            <a:ln w="39960">
              <a:solidFill>
                <a:srgbClr val="862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H="1">
              <a:off x="2286000" y="5335560"/>
              <a:ext cx="1440" cy="1219320"/>
            </a:xfrm>
            <a:prstGeom prst="line">
              <a:avLst/>
            </a:prstGeom>
            <a:ln w="11520">
              <a:solidFill>
                <a:srgbClr val="b83d68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 flipH="1" flipV="1">
              <a:off x="1066320" y="5257800"/>
              <a:ext cx="1143000" cy="1440"/>
            </a:xfrm>
            <a:prstGeom prst="line">
              <a:avLst/>
            </a:prstGeom>
            <a:ln w="11520">
              <a:solidFill>
                <a:srgbClr val="b83d68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Straight Connector 14"/>
          <p:cNvSpPr/>
          <p:nvPr/>
        </p:nvSpPr>
        <p:spPr>
          <a:xfrm>
            <a:off x="1981080" y="4191120"/>
            <a:ext cx="1447920" cy="182880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2743200" y="5105520"/>
            <a:ext cx="152280" cy="15228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7"/>
          <p:cNvSpPr/>
          <p:nvPr/>
        </p:nvSpPr>
        <p:spPr>
          <a:xfrm flipH="1" flipV="1">
            <a:off x="1066320" y="5181120"/>
            <a:ext cx="1752840" cy="1800"/>
          </a:xfrm>
          <a:prstGeom prst="line">
            <a:avLst/>
          </a:prstGeom>
          <a:ln w="11520">
            <a:solidFill>
              <a:srgbClr val="b83d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9"/>
          <p:cNvSpPr/>
          <p:nvPr/>
        </p:nvSpPr>
        <p:spPr>
          <a:xfrm>
            <a:off x="2819520" y="5181480"/>
            <a:ext cx="2880" cy="1371600"/>
          </a:xfrm>
          <a:prstGeom prst="line">
            <a:avLst/>
          </a:prstGeom>
          <a:ln w="11520">
            <a:solidFill>
              <a:srgbClr val="b83d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3030120" y="60958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2958120" y="42670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3413520" y="58672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3"/>
          <p:cNvSpPr/>
          <p:nvPr/>
        </p:nvSpPr>
        <p:spPr>
          <a:xfrm>
            <a:off x="2570400" y="655020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GD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4"/>
          <p:cNvSpPr/>
          <p:nvPr/>
        </p:nvSpPr>
        <p:spPr>
          <a:xfrm>
            <a:off x="1725120" y="655020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GD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5"/>
          <p:cNvSpPr/>
          <p:nvPr/>
        </p:nvSpPr>
        <p:spPr>
          <a:xfrm>
            <a:off x="523080" y="510552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L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6"/>
          <p:cNvSpPr/>
          <p:nvPr/>
        </p:nvSpPr>
        <p:spPr>
          <a:xfrm>
            <a:off x="525240" y="48006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L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7"/>
          <p:cNvSpPr/>
          <p:nvPr/>
        </p:nvSpPr>
        <p:spPr>
          <a:xfrm>
            <a:off x="3352680" y="48006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*Successful supply-side tax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5"/>
          <p:cNvSpPr/>
          <p:nvPr/>
        </p:nvSpPr>
        <p:spPr>
          <a:xfrm flipH="1">
            <a:off x="1828800" y="4648320"/>
            <a:ext cx="1447920" cy="182880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ffectiveness of supply-side policy depends on which types of taxes are cu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ly-side tax cuts have their primary impact on AD rather than AS in the short ru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ly-side tax cuts are likely to widen income inequalit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ly-side tax cuts are almost certain to lead to bigger budget defici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ly-side tax cuts should be seen as a way to promote long-term ec. grow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ultipliers used to determine the appropriate fiscal polic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LANNING FISCAL POLICY IS LIKE SHOOTING THROUGH A DENSE FOG AT A ERRATICALLY MOVING TARGET WITH AN INACCURATE GUN AND SLOW-MOVING BULLE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pansionary FP: cut taxes, increase transfers, increase 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ractionary FP: increase taxes, decrease transfers, decrease 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berals: US’s needs include better schools, healthcare, diminishing poverty, environment, infrastructure, etc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or EFP: increase G. For CFP: increase tax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ervatives: Gov’t limits daily lives and circumscribes our freed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or EFP: cut taxes. For CFP: decrease G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59:14Z</dcterms:created>
  <dc:creator>Maggio.V553</dc:creator>
  <dc:description/>
  <dc:language>en-US</dc:language>
  <cp:lastModifiedBy>HP Authorized Customer</cp:lastModifiedBy>
  <dcterms:modified xsi:type="dcterms:W3CDTF">2009-01-27T22:07:00Z</dcterms:modified>
  <cp:revision>8</cp:revision>
  <dc:subject/>
  <dc:title>Unit 6 Chapter 29</dc:title>
</cp:coreProperties>
</file>